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5F5-B2FA-4094-B5BB-D09FB888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127-2420-431A-AF0D-1C263FC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A3A-CE4D-4CC8-9945-1C9954CA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19E-7040-498F-BF88-A029D3D5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253-AF22-44AC-B5F5-D0A9392A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6A7-E7B8-464C-926A-D8075263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A11-A177-453F-A722-34309D7D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7A8-3F01-4158-B0E0-86120894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D6-94E4-4C24-BBDD-45AE76C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5E3-168D-447B-8EB8-E3D5D21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9FE-4BC9-41D6-A9E1-24C24A0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C22-ED1F-4264-8C0E-718E0AD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892-E641-4EF0-8B87-FB320A68F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39861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523880"/>
            <a:ext cx="4724640" cy="444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heter un cad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ying a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disq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jou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joue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c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pet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anap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eu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gâtea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limen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ro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araplu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ccesso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orte-feu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aroquin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j0358801"/>
          <p:cNvPicPr/>
          <p:nvPr/>
        </p:nvPicPr>
        <p:blipFill>
          <a:blip r:embed="rId1"/>
          <a:stretch/>
        </p:blipFill>
        <p:spPr>
          <a:xfrm>
            <a:off x="685800" y="304920"/>
            <a:ext cx="149220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311426"/>
          <p:cNvPicPr/>
          <p:nvPr/>
        </p:nvPicPr>
        <p:blipFill>
          <a:blip r:embed="rId2"/>
          <a:stretch/>
        </p:blipFill>
        <p:spPr>
          <a:xfrm>
            <a:off x="6400800" y="609480"/>
            <a:ext cx="176364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j0215055"/>
          <p:cNvPicPr/>
          <p:nvPr/>
        </p:nvPicPr>
        <p:blipFill>
          <a:blip r:embed="rId3"/>
          <a:stretch/>
        </p:blipFill>
        <p:spPr>
          <a:xfrm>
            <a:off x="3657600" y="4952880"/>
            <a:ext cx="175248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343779"/>
          <p:cNvPicPr/>
          <p:nvPr/>
        </p:nvPicPr>
        <p:blipFill>
          <a:blip r:embed="rId4"/>
          <a:stretch/>
        </p:blipFill>
        <p:spPr>
          <a:xfrm>
            <a:off x="457200" y="4724280"/>
            <a:ext cx="18273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340684"/>
          <p:cNvPicPr/>
          <p:nvPr/>
        </p:nvPicPr>
        <p:blipFill>
          <a:blip r:embed="rId5"/>
          <a:stretch/>
        </p:blipFill>
        <p:spPr>
          <a:xfrm>
            <a:off x="3505320" y="28195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0984_"/>
          <p:cNvPicPr/>
          <p:nvPr/>
        </p:nvPicPr>
        <p:blipFill>
          <a:blip r:embed="rId6"/>
          <a:stretch/>
        </p:blipFill>
        <p:spPr>
          <a:xfrm>
            <a:off x="6172200" y="5029200"/>
            <a:ext cx="2438280" cy="139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bd08868_"/>
          <p:cNvPicPr/>
          <p:nvPr/>
        </p:nvPicPr>
        <p:blipFill>
          <a:blip r:embed="rId7"/>
          <a:stretch/>
        </p:blipFill>
        <p:spPr>
          <a:xfrm>
            <a:off x="533520" y="2819520"/>
            <a:ext cx="17636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j0250655"/>
          <p:cNvPicPr/>
          <p:nvPr/>
        </p:nvPicPr>
        <p:blipFill>
          <a:blip r:embed="rId8"/>
          <a:stretch/>
        </p:blipFill>
        <p:spPr>
          <a:xfrm>
            <a:off x="6400800" y="2895480"/>
            <a:ext cx="2209680" cy="15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h01327_"/>
          <p:cNvPicPr/>
          <p:nvPr/>
        </p:nvPicPr>
        <p:blipFill>
          <a:blip r:embed="rId9"/>
          <a:stretch/>
        </p:blipFill>
        <p:spPr>
          <a:xfrm>
            <a:off x="3581280" y="228600"/>
            <a:ext cx="208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fe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ost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ho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7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liv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librai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du parf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rfum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5:09:39Z</dcterms:created>
  <dc:creator>Barlby High School</dc:creator>
  <dc:description/>
  <dc:language>en-US</dc:language>
  <cp:lastModifiedBy>Nicolas</cp:lastModifiedBy>
  <dcterms:modified xsi:type="dcterms:W3CDTF">2010-03-09T23:38:19Z</dcterms:modified>
  <cp:revision>3</cp:revision>
  <dc:subject/>
  <dc:title>Acheter un cadeau</dc:title>
</cp:coreProperties>
</file>